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AFC-64AD-4576-A716-6298D711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2A6-2568-42C1-8795-D439060F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F84-F021-43CD-B92B-8A44AE61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4BD-3DD1-4880-B85D-85B08A86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10A-5A39-41A9-8A2D-E951792C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6AF-1608-45A9-9D27-CE9A5F3D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95A-B160-421B-B52A-4C5AB16B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3D9-7169-40B8-8865-7B66BD5B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F16-E851-427D-8244-0198B264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632-006F-4662-A46D-FAB49D00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714-5FAA-47A1-9E00-ADC19C2C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72C-A20E-4C9D-B49C-ACC712D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B0BB-612E-41D3-B833-6E1FFAC29F9B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1272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54320" y="142920"/>
            <a:ext cx="81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إنَّ ابنكِ... فوق الصل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9520" y="5570640"/>
            <a:ext cx="64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سلَّمكِ سرَّاً عج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65920" y="142920"/>
            <a:ext cx="594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صيَّركِ أمَّ الحب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22760" y="5499000"/>
            <a:ext cx="79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يا أم الله... يا أم الحيا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36360" y="260280"/>
            <a:ext cx="255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302080"/>
            <a:ext cx="51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181080" y="44280"/>
            <a:ext cx="2554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9280" y="26028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16000" y="544500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أنشري النور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د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قل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كي نلقَ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755640"/>
            <a:ext cx="284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36687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2000" y="755640"/>
            <a:ext cx="28429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عند الإله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3668760"/>
            <a:ext cx="33116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11:20:11Z</dcterms:modified>
  <cp:revision>98</cp:revision>
  <dc:subject/>
  <dc:title>PowerPoint Presentation</dc:title>
</cp:coreProperties>
</file>